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854-A087-4E3E-81D3-02A43A41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987-5DB4-4D4F-BE31-5490653E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AAAA0-9417-4FC7-ACCA-A2E71C05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971A4-0729-495C-B36B-111F003A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016A7-194C-4309-9F3D-9008C13E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2F399-DCB0-4807-9117-1DCBF1B3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CCEA8-9848-4BC8-A422-9D15D911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251BC-5187-4982-9AFF-CB1A5E92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796D2-943A-4166-80C7-FF2D8E59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781A7-4F2A-48AC-B1D7-7C2AD85D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8B545-0CA9-43A0-9D02-59D68B25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A8491-9A17-432A-99F6-504AC103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6E6-EB3F-48D4-AFD5-613447A4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5A8F0-FBFF-4D9F-A51C-8D8ADD6A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DFEA8-4E8A-4817-94DC-C2AEE576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4E09B-FCC8-4606-94F2-74BD2502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EFEEB-DC28-411D-9BE2-CE6AD721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8077D-2F24-4E23-86DF-E20C8715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F2B9F-1130-4B63-9832-8EDAE4ED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98D2A-CE19-423A-A062-44F8D9CA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7A00E-544A-4B2B-8A82-1896444B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D62CE-4417-48EE-91B6-E243222A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51934-C844-44E3-AD3B-50F25529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BC8-C1C8-4675-B05E-317A1777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24C64-38D6-4CF0-9D3E-EA03838A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12E97-AAE0-4CFD-88B4-C850D605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F9C43-AAEC-4516-B263-D5681426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47A83-1D95-4F26-B6FA-434AB9C7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BFF0E-302D-43A7-B249-DE0AFF61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0A102-853D-42E5-B87F-7531CF97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B6ADC-3285-4751-879F-C05CB24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6660D-E049-446D-94C0-B5B60A49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A6EBC-96CC-4170-A98B-6134EC90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E032C-8079-486C-A731-9CDE8503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1553-23F2-4E27-A6BB-9E321C07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70612-67D8-42CD-93BD-5B06CBFC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8920F-F5A2-4A99-80D8-33BA5645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3DA38-09E1-4DB4-823F-51366E1A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633E-F7DB-42ED-B720-8E25BDAC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9C66-9542-4223-AC08-D1F77969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337A-1A38-414A-9419-5A367130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5D9-FC1A-4181-9F1F-C3B62316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7A64-38E9-47A7-AD9A-A48CB286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4379-B803-41B7-BF55-7B6C06EE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BD8-4035-46B6-ABFE-50894070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633B-45EA-4507-981F-FA34F3D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1E5-0EAD-429C-9A50-34A6F1F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767F-1B5D-4363-B524-E7B37B2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BEEA-C826-421D-91EB-71F92DF0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D359-2E9E-4ED5-8472-8A0B90A4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0EE9-135C-49CB-9FA9-23DC2D51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AD28-A0B1-4B5C-9422-22351E18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E506-8BEA-4A4F-8800-716BC358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152C-1EFA-4F65-AA96-18A37354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A3F7-DB95-4FC0-8ACB-09B263BD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429-9AE1-4673-B73C-5698CAA9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3052-915C-42C7-A59A-8E34D92C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FB47-B414-424F-8249-4B599F41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0CA9-6514-4FBE-94E7-20A6A848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0F1F-E6ED-49B2-9679-715E5759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23BA-BFBA-4862-80AD-52590C8D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6297-D777-4B89-846D-AC5F491E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08D84-44E7-42CF-B1D5-84CA64C1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1A092-ED76-44D7-97BB-75FC668A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CBB10-2926-4627-B56F-E7F8958E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73905-FE3A-4FA5-9470-0913652C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BAB-CA37-4BAB-8D65-2F845959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0F804-AB94-4BCC-947E-AABBE38D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E967-B642-4799-A312-7B96A233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13A6-F6CA-4635-9F9A-A961C39E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E3A4-CC29-45B9-9041-694CA85C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E0FB-CC11-4C2E-9182-B1F8755A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EAC2-1CF7-4F57-A137-71F64EB0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B9CED-3753-4084-A91E-7EEDB043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8FC2-3750-4963-BF5C-58D0C162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60140-9FD0-49A4-AF3C-6A01C1E5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EF567-B4C0-444E-97BF-978BD825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C0A-389C-4EB2-B066-125FA3BC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0457A-0FDC-4F23-8852-B96B7A5B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5A43E-2856-4685-B4AC-10037EB0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F6019-9C56-47EB-AF17-CDF2E84C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03E2-06C6-46A9-B763-06B9B859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BF8B2-70F5-46C4-B031-65705203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8EBF-10D4-4A3C-94D5-F98ADEF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A4C7F-A043-471D-9939-AE628499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D6821-DB80-43E9-9924-DF8B4DD3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0462-4F16-46E2-AB24-5C2119F2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FA055-3E1B-4C5A-96EE-0BACA20F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C97-0259-493C-9B25-6F09F7E3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2537-E431-4BCE-818F-C4E23684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8CF02-51F0-4A8B-8D4E-691DBBBC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8D803-CB9D-40A5-A0E1-BC63A61F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8E14D-B26D-4931-BA6B-A521E49A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92BBA-96D9-4E10-8F6D-57EFC58B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04718-FC33-4603-B3AE-11E5102C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CC5B2-26D1-4F5D-BD90-B917070C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6421E-C4C5-40EE-98C4-31531C28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E574D-16CB-4AC5-8D8E-51F7E3F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9AE1D-3062-46A4-B433-8F07DE6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075-57CE-416E-8A0C-76309A07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16774-1860-4909-9485-E1074A43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F9EC8-B0C3-4269-AD65-9FC7B769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44A24-ACEB-4965-BB95-8387F12B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FA358-77A8-41F8-9294-49DF92BF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9733E-3206-46D7-BDAE-9C9F976F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7CB40-9D42-4994-8DAF-E16343DF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8C16E-D70B-4514-AD32-3522EBC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2D9D3-66C2-4BC6-89ED-87F3577A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38D04-C58B-491A-89A4-ED0D10E2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0F991-5D88-4E0D-947D-A2450033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046-7946-478D-96B5-6285ADA8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AA451-8B80-4E8C-AED7-B5ED7234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B76DE-A549-43DD-9CCD-ECD7554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18C6-E0CC-4B4A-A920-062DE512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FC087-F919-4C6B-898E-32483416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B2652-0D9A-4094-8862-3EED0C9C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61493-249C-4238-8BD5-1B88C814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08EF8-1E21-4D80-ACAB-F6AF7C96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6EAB-1038-4218-A9C3-895634FA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81B8D-35F5-49C7-8634-48FA1891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0C665-8DC7-472B-BCFD-01CE4EE9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4F9-7A3F-43CF-97F7-FC4E1BD3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1D066-5D9E-4B2F-AD92-FBB40F25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251D8-6854-43C2-9337-1E8C5A98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AFD0F-81CC-49A2-BD20-566BADF0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4A975-E428-468C-9372-7DE03D7C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BC904-FF3A-489E-BED9-651AA3ED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67C26-D56E-4C7E-903E-FB64E5FC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D8AD5-F9C3-4EBD-8957-5E7B61EC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36E39-E45D-4DB0-B770-38BCF01C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816C1-4C79-4B34-A47A-404D79F7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CA324-34E5-47DE-A798-C5C0ACA1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D1962-B35F-478E-8F78-F495711AB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WSU ppt template body1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F5DD4-45DE-4BCA-8D5A-B8689FFC7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WSU ppt template body1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E54F4-CEE5-4BDF-9EE0-1B9CEE287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WSU ppt template body1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FF4A9-C0EA-4516-8194-D807E3DDE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WSU ppt template body2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0951D-2583-4C72-8C9D-9E8FE2084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WSU ppt template body3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ADB48-D735-417C-B3EB-4044C4752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WSU ppt template body1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4DA7C-C21E-4C74-88F0-FF46B6C07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WSU ppt template body2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C7007-BB15-4315-AB7C-39ED1101D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WSU ppt template body3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1317D-48F3-4180-A2DD-D64CC7D36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WSU ppt template body1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4A8EF-6B83-4E85-B601-0BC026F76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7" descr="WSU ppt template title.png"/>
          <p:cNvPicPr/>
          <p:nvPr/>
        </p:nvPicPr>
        <p:blipFill>
          <a:blip r:embed="rId2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WSU ppt template body3.png"/>
          <p:cNvPicPr/>
          <p:nvPr/>
        </p:nvPicPr>
        <p:blipFill>
          <a:blip r:embed="rId3"/>
          <a:stretch/>
        </p:blipFill>
        <p:spPr>
          <a:xfrm>
            <a:off x="0" y="0"/>
            <a:ext cx="9155160" cy="719928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F7B6B-B2FA-4C8A-9089-F830696D4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cilities Planning &amp;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ustomer Focus Group – Working Lun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ursday, December 8,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ubtitle 2"/>
          <p:cNvSpPr/>
          <p:nvPr/>
        </p:nvSpPr>
        <p:spPr>
          <a:xfrm>
            <a:off x="1295280" y="47624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898989"/>
                </a:solidFill>
                <a:latin typeface="Calibri"/>
              </a:rPr>
              <a:t>FP&amp;M Mission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898989"/>
                </a:solidFill>
                <a:latin typeface="Calibri"/>
              </a:rPr>
              <a:t>Facilities Planning and Management supports opportunities for teaching, research, and service excellence by providing a safe, attractive, well-maintained, and functional campus. We continuously look for ways to improve our organization in order to deliver services that exceed the expectations of our customers: Wayne State University’s students, faculty, staff and visito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360" y="262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scussion Regarding Wor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quest Button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distribute a draft of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uide to Servic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you in the near future and would like your help in reviewing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also send you a draft of the GIRF Brochure for your review; let us know what you think of it in terms of clarity and helpful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day’s 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825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lcome and Overview of the Group’s Purp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 of Customer Focused Initi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up Discussion and Feedback on Select Initi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Order Customer Service Surv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ide to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RF Broch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Request Butt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9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 of the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rpose of the Customer Focus Group is to review and provide input on initiatives FP&amp;M is taking to enhance communication and outreach with its custom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tomer Focused Initi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P&amp;M is focusing on enhancing internal and external processes and procedures that positively impact customer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tives already underway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sting methods to reduce project completion times and project costs (J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ing workers with enhanced technology and training (TMA Enhancements, Custodial Train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ing communication and transparency (Guide to Servi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ing greater opportunities for customer feedback (Work Order Surve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ing customers with greater understanding of facility operating costs (Utility Pilo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tomer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estions are focused on the four main aspects of customer service for maintenance and constructio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ism of sta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ss of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of work perform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equacy of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results will give FP&amp;M’s leadership a high-level understanding of customer satisfa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sults are linked to specific work orders that allows FP&amp;M an opportunity to follow up with customers or workers if necess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tomer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 want to know from you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 the interface look helpful and easy to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esults and performance measures are you most interested in seeing as a custom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should we communicate the launch of this initiative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ide to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is to increase customer knowledge about FP&amp;M services, costs, and frequ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ed se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pays for w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dial cleaning frequencies by room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itization of work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ctations regarding completion ti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to contact for what and h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uide to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 will want to know from you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e on the right trac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ll the Guide be helpfu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else should we includ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e explaining processes and procedures in a way that makes sen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IRF Broch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 is to provide customers with a pamphlet explaining the GIRF process,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delivery methods to choose from and what they all m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nformation FP&amp;M needs from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should expect from FP&amp;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21:06:09Z</dcterms:created>
  <dc:creator>dbholston</dc:creator>
  <dc:description/>
  <dc:language>en-US</dc:language>
  <cp:lastModifiedBy>Andrew Billing</cp:lastModifiedBy>
  <dcterms:modified xsi:type="dcterms:W3CDTF">2012-02-01T18:33:30Z</dcterms:modified>
  <cp:revision>158</cp:revision>
  <dc:subject/>
  <dc:title>Slide 1</dc:title>
</cp:coreProperties>
</file>